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B47C-1CFC-48CF-BA2D-0DDF33E54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59F2-48D8-4770-8422-C4FD5B4B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B92A-8825-4B4A-B8ED-E212B73F7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18E6-C863-44BD-8747-6C036D6D8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BE5F-14BE-4894-A2AE-0E9176FC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212E-524F-4BFD-ADA1-5C7892B8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F869-1A0C-4A74-A03A-2937D06E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FE5A-6529-4B86-A097-F3787AD1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7AAA-2487-456E-9207-404C3416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60D3-87D6-4FF8-88EA-A5060CBD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C836-824C-4ADE-BE5B-C7A6EA59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BE5D-0262-46CB-B401-E048FEB3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839E-CE6C-4897-A905-974D0FFCD7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Title 1"/>
          <p:cNvGrpSpPr/>
          <p:nvPr/>
        </p:nvGrpSpPr>
        <p:grpSpPr>
          <a:xfrm>
            <a:off x="311040" y="244440"/>
            <a:ext cx="8521920" cy="2114640"/>
            <a:chOff x="311040" y="244440"/>
            <a:chExt cx="8521920" cy="2114640"/>
          </a:xfrm>
        </p:grpSpPr>
        <p:pic>
          <p:nvPicPr>
            <p:cNvPr id="42" name="Title 1" descr=""/>
            <p:cNvPicPr/>
            <p:nvPr/>
          </p:nvPicPr>
          <p:blipFill>
            <a:blip r:embed="rId1"/>
            <a:stretch/>
          </p:blipFill>
          <p:spPr>
            <a:xfrm>
              <a:off x="311040" y="244440"/>
              <a:ext cx="852192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57200" y="274680"/>
              <a:ext cx="8229600" cy="20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Friday Forum, </a:t>
              </a:r>
              <a:br>
                <a:rPr sz="3200"/>
              </a:b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School of Geography and Environmental Studies</a:t>
              </a:r>
              <a:br>
                <a:rPr sz="3200"/>
              </a:b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 ‘Journey towards knowledge’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" name="Group 4"/>
          <p:cNvGrpSpPr/>
          <p:nvPr/>
        </p:nvGrpSpPr>
        <p:grpSpPr>
          <a:xfrm>
            <a:off x="1003320" y="2514600"/>
            <a:ext cx="7128000" cy="3743280"/>
            <a:chOff x="1003320" y="2514600"/>
            <a:chExt cx="7128000" cy="3743280"/>
          </a:xfrm>
        </p:grpSpPr>
        <p:sp>
          <p:nvSpPr>
            <p:cNvPr id="45" name="Rounded Rectangle 2"/>
            <p:cNvSpPr/>
            <p:nvPr/>
          </p:nvSpPr>
          <p:spPr>
            <a:xfrm>
              <a:off x="1003320" y="2514600"/>
              <a:ext cx="7128000" cy="374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TextBox 3"/>
            <p:cNvSpPr/>
            <p:nvPr/>
          </p:nvSpPr>
          <p:spPr>
            <a:xfrm>
              <a:off x="1115640" y="2709360"/>
              <a:ext cx="69120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O world of spring and autumn, birth and dying!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The endless cycle of ideas and action,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Endless invention, endless experiment,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Brings knowledge of motion, but not of stillness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Where is the life we have lost in living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Where is the wisdom we have lost in knowledge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Where is the knowledge we have lost in information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Title 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8" name="Titl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6600" spc="-1" strike="noStrike">
                  <a:solidFill>
                    <a:srgbClr val="000000"/>
                  </a:solidFill>
                  <a:latin typeface="Calibri"/>
                </a:rPr>
                <a:t>Geography challenges</a:t>
              </a:r>
              <a:br>
                <a:rPr sz="4400"/>
              </a:br>
              <a:r>
                <a:rPr b="0" lang="en-AU" sz="4800" spc="-1" strike="noStrike">
                  <a:solidFill>
                    <a:srgbClr val="000000"/>
                  </a:solidFill>
                  <a:latin typeface="Calibri"/>
                </a:rPr>
                <a:t>Thinking about a discipline</a:t>
              </a:r>
              <a:br>
                <a:rPr sz="4400"/>
              </a:br>
              <a:br>
                <a:rPr sz="1300"/>
              </a:br>
              <a:r>
                <a:rPr b="0" lang="en-AU" sz="4400" spc="-1" strike="noStrike">
                  <a:solidFill>
                    <a:srgbClr val="000000"/>
                  </a:solidFill>
                  <a:latin typeface="Calibri"/>
                </a:rPr>
                <a:t>Peter Wilde</a:t>
              </a:r>
              <a:br>
                <a:rPr sz="4400"/>
              </a:br>
              <a:r>
                <a:rPr b="0" lang="en-AU" sz="3600" spc="-1" strike="noStrike">
                  <a:solidFill>
                    <a:srgbClr val="000000"/>
                  </a:solidFill>
                  <a:latin typeface="Calibri"/>
                </a:rPr>
                <a:t>9 August 2013</a:t>
              </a:r>
              <a:br>
                <a:rPr sz="3600"/>
              </a:br>
              <a:br>
                <a:rPr sz="3600"/>
              </a:b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Australia Post sign."/>
          <p:cNvPicPr/>
          <p:nvPr/>
        </p:nvPicPr>
        <p:blipFill>
          <a:blip r:embed="rId1"/>
          <a:stretch/>
        </p:blipFill>
        <p:spPr>
          <a:xfrm>
            <a:off x="3203640" y="388800"/>
            <a:ext cx="5724360" cy="4856400"/>
          </a:xfrm>
          <a:prstGeom prst="rect">
            <a:avLst/>
          </a:prstGeom>
          <a:ln w="0">
            <a:noFill/>
          </a:ln>
        </p:spPr>
      </p:pic>
      <p:sp>
        <p:nvSpPr>
          <p:cNvPr id="51" name="Title 1"/>
          <p:cNvSpPr/>
          <p:nvPr/>
        </p:nvSpPr>
        <p:spPr>
          <a:xfrm>
            <a:off x="1476360" y="3429000"/>
            <a:ext cx="7086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3011400" y="2759040"/>
            <a:ext cx="6154920" cy="25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324000" y="428760"/>
            <a:ext cx="41036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oday we stand in footsteps millennia ol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May we acknowledge the traditional ow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hose cultures and customs have nurtured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nd continue to nurture, this land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ince men and women awoke from the great dre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e honour the presence of these ancestors who reside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imagination of this land and whose irrepress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pirituality flows through all cre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Jonathon Hi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3083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My journey towards an understanding of ge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 rot="19828200">
            <a:off x="373680" y="2846520"/>
            <a:ext cx="84960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797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 rot="19704600">
            <a:off x="426600" y="1737000"/>
            <a:ext cx="92124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8096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736280" y="2014560"/>
            <a:ext cx="808560" cy="4597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3537000" y="1827360"/>
            <a:ext cx="10540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6"/>
          <p:cNvSpPr/>
          <p:nvPr/>
        </p:nvSpPr>
        <p:spPr>
          <a:xfrm rot="1095600">
            <a:off x="1487880" y="2978280"/>
            <a:ext cx="833040" cy="459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5102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8"/>
          <p:cNvSpPr/>
          <p:nvPr/>
        </p:nvSpPr>
        <p:spPr>
          <a:xfrm rot="1590600">
            <a:off x="4760640" y="2219400"/>
            <a:ext cx="4118760" cy="4597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461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ocietal and physical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9"/>
          <p:cNvSpPr/>
          <p:nvPr/>
        </p:nvSpPr>
        <p:spPr>
          <a:xfrm rot="1893000">
            <a:off x="2315520" y="2971800"/>
            <a:ext cx="3453120" cy="825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431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fferential change over time indifferen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1"/>
          <p:cNvSpPr/>
          <p:nvPr/>
        </p:nvSpPr>
        <p:spPr>
          <a:xfrm rot="19586400">
            <a:off x="46800" y="3802680"/>
            <a:ext cx="3389040" cy="11912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8216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fferent expressions of phenomena  in differen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2"/>
          <p:cNvSpPr/>
          <p:nvPr/>
        </p:nvSpPr>
        <p:spPr>
          <a:xfrm rot="870000">
            <a:off x="4606200" y="3013200"/>
            <a:ext cx="4400280" cy="8254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533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fferent outcomes of processes in differen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3"/>
          <p:cNvSpPr/>
          <p:nvPr/>
        </p:nvSpPr>
        <p:spPr>
          <a:xfrm rot="20805000">
            <a:off x="5383440" y="4748040"/>
            <a:ext cx="3635280" cy="1557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998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How the characteristics of place and space influence phenomena, processes and outcom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Title 15"/>
          <p:cNvGrpSpPr/>
          <p:nvPr/>
        </p:nvGrpSpPr>
        <p:grpSpPr>
          <a:xfrm>
            <a:off x="311040" y="244440"/>
            <a:ext cx="8521920" cy="1352520"/>
            <a:chOff x="311040" y="244440"/>
            <a:chExt cx="8521920" cy="1352520"/>
          </a:xfrm>
        </p:grpSpPr>
        <p:pic>
          <p:nvPicPr>
            <p:cNvPr id="66" name="Title 15" descr=""/>
            <p:cNvPicPr/>
            <p:nvPr/>
          </p:nvPicPr>
          <p:blipFill>
            <a:blip r:embed="rId1"/>
            <a:stretch/>
          </p:blipFill>
          <p:spPr>
            <a:xfrm>
              <a:off x="311040" y="244440"/>
              <a:ext cx="852192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4400" spc="-1" strike="noStrike">
                  <a:solidFill>
                    <a:srgbClr val="ffffff"/>
                  </a:solidFill>
                  <a:latin typeface="Calibri"/>
                </a:rPr>
                <a:t>Where my journey has led – so far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TextBox 16"/>
          <p:cNvSpPr/>
          <p:nvPr/>
        </p:nvSpPr>
        <p:spPr>
          <a:xfrm rot="1371600">
            <a:off x="7136280" y="1898280"/>
            <a:ext cx="19868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4826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ense of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7"/>
          <p:cNvSpPr/>
          <p:nvPr/>
        </p:nvSpPr>
        <p:spPr>
          <a:xfrm flipH="1" rot="20620800">
            <a:off x="1338480" y="5532120"/>
            <a:ext cx="3154320" cy="825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5222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Interaction among phenomena in a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0"/>
          <p:cNvSpPr/>
          <p:nvPr/>
        </p:nvSpPr>
        <p:spPr>
          <a:xfrm rot="402000">
            <a:off x="2403360" y="4413240"/>
            <a:ext cx="3748320" cy="459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5798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Interactions between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The 1960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224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Classical regional geograph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TextBox 2"/>
          <p:cNvGrpSpPr/>
          <p:nvPr/>
        </p:nvGrpSpPr>
        <p:grpSpPr>
          <a:xfrm>
            <a:off x="1395360" y="4992840"/>
            <a:ext cx="6230880" cy="1450800"/>
            <a:chOff x="1395360" y="4992840"/>
            <a:chExt cx="6230880" cy="1450800"/>
          </a:xfrm>
        </p:grpSpPr>
        <p:pic>
          <p:nvPicPr>
            <p:cNvPr id="74" name="TextBox 2" descr=""/>
            <p:cNvPicPr/>
            <p:nvPr/>
          </p:nvPicPr>
          <p:blipFill>
            <a:blip r:embed="rId1"/>
            <a:stretch/>
          </p:blipFill>
          <p:spPr>
            <a:xfrm>
              <a:off x="1395360" y="4992840"/>
              <a:ext cx="6230880" cy="14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1604880" y="5102280"/>
              <a:ext cx="5934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Integrated teaching about human and physical features in spac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E:\bPics.Work\Pics13\PicsW13.P2\1-J13FF-19C Brews.jpg"/>
          <p:cNvPicPr/>
          <p:nvPr/>
        </p:nvPicPr>
        <p:blipFill>
          <a:blip r:embed="rId1"/>
          <a:stretch/>
        </p:blipFill>
        <p:spPr>
          <a:xfrm>
            <a:off x="-20520" y="765000"/>
            <a:ext cx="4919400" cy="59896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4680000" y="404640"/>
            <a:ext cx="4248000" cy="561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1444320" y="3244680"/>
            <a:ext cx="1991160" cy="368280"/>
          </a:xfrm>
          <a:prstGeom prst="rect">
            <a:avLst/>
          </a:prstGeom>
          <a:solidFill>
            <a:srgbClr val="bfbfbf"/>
          </a:solidFill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rewing 1754-19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E:\aFiles.P\ABS.POP.GIS\2.JOBS\J13_GES_FF\J13FF_WMids.jpg"/>
          <p:cNvPicPr/>
          <p:nvPr/>
        </p:nvPicPr>
        <p:blipFill>
          <a:blip r:embed="rId2"/>
          <a:stretch/>
        </p:blipFill>
        <p:spPr>
          <a:xfrm>
            <a:off x="5076720" y="549360"/>
            <a:ext cx="3673440" cy="421632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4680000" y="51069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est Midlands iron industry around 18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val 3"/>
          <p:cNvSpPr/>
          <p:nvPr/>
        </p:nvSpPr>
        <p:spPr>
          <a:xfrm flipV="1">
            <a:off x="4853160" y="566100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4898880" y="5477040"/>
            <a:ext cx="40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ron works – note proximity to can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Hypatia Sans Pro Semibold"/>
              </a:rPr>
              <a:t>Glacial Isostatic Adjustment (GIA): A (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basic) </a:t>
            </a:r>
            <a:r>
              <a:rPr b="0" lang="en-GB" sz="4000" spc="-1" strike="noStrike">
                <a:solidFill>
                  <a:srgbClr val="000000"/>
                </a:solidFill>
                <a:latin typeface="Hypatia Sans Pro Semibold"/>
              </a:rPr>
              <a:t>prim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240" y="17524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 simple view a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arth rotational feed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ravitational feed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&gt; Global feed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Modelling critically requir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ime-steps of spatial distribution of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ce m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Knowledge of how Earth responds to loading: (3d)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arth structure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notably, lithospheric thickness, lower &amp; upper mantle viscosit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reb_peakglac"/>
          <p:cNvPicPr/>
          <p:nvPr/>
        </p:nvPicPr>
        <p:blipFill>
          <a:blip r:embed="rId1"/>
          <a:stretch/>
        </p:blipFill>
        <p:spPr>
          <a:xfrm>
            <a:off x="5410080" y="1981080"/>
            <a:ext cx="3505320" cy="172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reb_deglac"/>
          <p:cNvPicPr/>
          <p:nvPr/>
        </p:nvPicPr>
        <p:blipFill>
          <a:blip r:embed="rId2"/>
          <a:stretch/>
        </p:blipFill>
        <p:spPr>
          <a:xfrm>
            <a:off x="5433840" y="3708360"/>
            <a:ext cx="3505320" cy="180036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 rot="2298000">
            <a:off x="744840" y="4535640"/>
            <a:ext cx="3484800" cy="581400"/>
          </a:xfrm>
          <a:prstGeom prst="rect">
            <a:avLst/>
          </a:prstGeom>
          <a:solidFill>
            <a:srgbClr val="eeece1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00000"/>
                </a:solidFill>
                <a:latin typeface="Calibri"/>
              </a:rPr>
              <a:t>Poorly underst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Geography matters!</a:t>
            </a:r>
            <a:br>
              <a:rPr sz="4000"/>
            </a:b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(Courtesy of Matt K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976040"/>
            <a:ext cx="822960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Pacific islands feel the brunt, regardl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Northern Europe feels less than average due to Greenland melt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542880" y="2533680"/>
            <a:ext cx="8058240" cy="2076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1717560" y="4762440"/>
            <a:ext cx="569592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957240" y="1887480"/>
            <a:ext cx="33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Greenland mass loss equiv to 1mm/yr global sea level 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5035680" y="1887480"/>
            <a:ext cx="346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est Antarctic mass loss equiv to 1mm/yr global sea level 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06:58:09Z</dcterms:created>
  <dc:creator>Peter</dc:creator>
  <dc:description/>
  <cp:keywords>D 301;As used</cp:keywords>
  <dc:language>en-US</dc:language>
  <cp:lastModifiedBy>Max</cp:lastModifiedBy>
  <cp:lastPrinted>2013-08-16T03:24:20Z</cp:lastPrinted>
  <dcterms:modified xsi:type="dcterms:W3CDTF">2014-12-15T06:11:17Z</dcterms:modified>
  <cp:revision>110</cp:revision>
  <dc:subject/>
  <dc:title>Geography challenges Thinking about a discipline  Peter Wilde 9 August 2013</dc:title>
</cp:coreProperties>
</file>